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790-137E-4D89-B313-93E3F640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73A-9DE2-41B4-A25D-5ED4682B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975-2993-4D09-9F36-FE27EEB8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BEA-9A4C-4FF3-A205-67AB0406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FEFF-7CB5-4C04-8EC0-4C48716B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9247-FFC9-4246-A8AC-FC58001C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2D44-924F-4F0F-8201-7ED871E7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B2FA-C6A3-4021-9683-AF9ADA03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AE5F-1B83-4438-860C-1F6DA765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1E7A-42BF-47AC-BA4A-3C9B9FBB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FBAC-13FF-4A2A-966E-6CD94D5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0C3-8BC0-4822-8C17-F4ADF459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609F-F2A1-4DD0-A61B-3628BCD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6ABE-1068-41CA-B1B3-C45A5CB2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35D7-10E6-4FC7-9304-664CF509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3133-A1EC-474D-8668-74933216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E998-A604-44F3-9E48-72650F59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1D0-B5B5-44BD-9A7E-EF434C4D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C8E-7B82-4D84-BAC2-6975BD26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FD2-B176-4E51-9FAF-1AD0BD0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6BA-58BA-47AC-A936-575ACADB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446-FB3F-4F18-AFDE-5BD4D840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714-E378-441E-98BE-9B5C0971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8DA-2F45-4F6D-827C-C1BD09D3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B090-5CB8-4705-B4A1-2F3AC8452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7" name="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897200" y="165240"/>
              <a:ext cx="6075360" cy="680400"/>
              <a:chOff x="1897200" y="165240"/>
              <a:chExt cx="6075360" cy="68040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1897200" y="166680"/>
                <a:ext cx="3505320" cy="677160"/>
                <a:chOff x="1897200" y="166680"/>
                <a:chExt cx="3505320" cy="67716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3859560" y="7884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978360" y="8312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3642120" y="7614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3399120" y="7822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3326040" y="79164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3279960" y="790200"/>
                  <a:ext cx="4608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3030840" y="65196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177000" y="64260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279960" y="69156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276720" y="71712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3362760" y="68688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3368880" y="73620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402360" y="712440"/>
                  <a:ext cx="4104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413520" y="72504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581640" y="73440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692880" y="6472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759480" y="71064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3545280" y="5677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432600" y="6346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08760" y="6138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291120" y="523440"/>
                  <a:ext cx="6336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306960" y="5900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262680" y="596520"/>
                  <a:ext cx="2988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4927680" y="55980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4299120" y="167760"/>
                  <a:ext cx="666720" cy="4489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094280" y="48996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4075200" y="480600"/>
                  <a:ext cx="25560" cy="1872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4845240" y="428040"/>
                  <a:ext cx="1159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967640" y="470880"/>
                  <a:ext cx="9360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918320" y="483840"/>
                  <a:ext cx="38160" cy="216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892760" y="41544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5094720" y="50112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4556520" y="175680"/>
                  <a:ext cx="325440" cy="6480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4268880" y="174240"/>
                  <a:ext cx="301680" cy="3132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603960" y="22032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2826000" y="174240"/>
                  <a:ext cx="692280" cy="2408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519720" y="166680"/>
                  <a:ext cx="31680" cy="86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500640" y="239400"/>
                  <a:ext cx="9360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400560" y="290160"/>
                  <a:ext cx="12708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84800" y="323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773440" y="401040"/>
                  <a:ext cx="55116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870280" y="60768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292560" y="45180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373560" y="433080"/>
                  <a:ext cx="1440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897200" y="282240"/>
                  <a:ext cx="68760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163960" y="493200"/>
                  <a:ext cx="258840" cy="35064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619720" y="75348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605320" y="5727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978200" y="35028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57720" y="20448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38760" y="17568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329200" y="23148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305440" y="2534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403720" y="31860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491200" y="3171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57560" y="252000"/>
                  <a:ext cx="223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164640" y="165240"/>
                <a:ext cx="1807920" cy="680400"/>
                <a:chOff x="6164640" y="165240"/>
                <a:chExt cx="1807920" cy="6804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7909200" y="76176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666200" y="7826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593120" y="79200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547400" y="790560"/>
                  <a:ext cx="4572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297920" y="65232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444080" y="64296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547400" y="69192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544160" y="71748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29840" y="68724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35960" y="73656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669440" y="712800"/>
                  <a:ext cx="4140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680600" y="72540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848720" y="7347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9960" y="6476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812360" y="5680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699680" y="6350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75840" y="61416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58200" y="523800"/>
                  <a:ext cx="6372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74040" y="5904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529760" y="5968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871040" y="22068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91640" y="174600"/>
                  <a:ext cx="695160" cy="24084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86800" y="165240"/>
                  <a:ext cx="32040" cy="8712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767720" y="239760"/>
                  <a:ext cx="9396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68000" y="290520"/>
                  <a:ext cx="12672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751880" y="32364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040880" y="401400"/>
                  <a:ext cx="55080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37720" y="60804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0000" y="452160"/>
                  <a:ext cx="2844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1000" y="43344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164640" y="284040"/>
                  <a:ext cx="68724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431040" y="495360"/>
                  <a:ext cx="258840" cy="3502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886800" y="75384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872400" y="57312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245640" y="35064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24800" y="20484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405840" y="17604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596280" y="23184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572520" y="25380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670800" y="31896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758280" y="31752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525000" y="25236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1266840" y="176040"/>
              <a:ext cx="7464240" cy="663840"/>
              <a:chOff x="1266840" y="176040"/>
              <a:chExt cx="7464240" cy="66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1266840" y="527040"/>
                <a:ext cx="7464240" cy="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286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908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526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14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765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383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05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623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244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862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484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102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720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42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960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581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199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1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439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057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917720" y="173160"/>
              <a:ext cx="5864040" cy="671040"/>
              <a:chOff x="1917720" y="173160"/>
              <a:chExt cx="5864040" cy="67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4524120" y="174600"/>
                <a:ext cx="0" cy="225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17800" y="527040"/>
                <a:ext cx="111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86280" y="555480"/>
                <a:ext cx="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48080" y="714240"/>
                <a:ext cx="0" cy="12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34200" y="352440"/>
                <a:ext cx="0" cy="2851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84800" y="527040"/>
                <a:ext cx="5526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96000" y="374400"/>
                <a:ext cx="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699240" y="177480"/>
                <a:ext cx="0" cy="78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057800" y="174240"/>
                <a:ext cx="0" cy="2883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7296120" y="527040"/>
                <a:ext cx="1238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086240" y="527040"/>
                <a:ext cx="982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419960" y="174240"/>
                <a:ext cx="0" cy="428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81760" y="745920"/>
                <a:ext cx="0" cy="536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38360" y="180720"/>
                <a:ext cx="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76560" y="176040"/>
                <a:ext cx="0" cy="5346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035160" y="527040"/>
                <a:ext cx="1080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22400" y="527040"/>
                <a:ext cx="954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504880" y="527040"/>
                <a:ext cx="13032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17720" y="527040"/>
                <a:ext cx="552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49360" y="371520"/>
                <a:ext cx="0" cy="472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90800" y="399960"/>
                <a:ext cx="0" cy="2473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352600" y="173160"/>
                <a:ext cx="0" cy="424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14400" y="285480"/>
                <a:ext cx="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14400" y="176040"/>
                <a:ext cx="0" cy="34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77000" y="525240"/>
                <a:ext cx="1270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cec7aa"/>
                </a:gs>
                <a:gs pos="50000">
                  <a:srgbClr val="e9e6d9"/>
                </a:gs>
                <a:gs pos="100000">
                  <a:srgbClr val="cec7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6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2F97-AD9B-4B3D-B935-278E6E209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33"/>
                </a:solidFill>
                <a:latin typeface="Times New Roman"/>
              </a:rPr>
              <a:t>Title Page</a:t>
            </a:r>
            <a:endParaRPr b="0" i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31240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876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Mission Facts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66680" y="2590920"/>
          <a:ext cx="7391520" cy="327636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Establish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ed 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on Order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d 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Geography (Location)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Timeline of the Early History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85800" y="2286000"/>
          <a:ext cx="7772400" cy="4235400"/>
        </p:xfrm>
        <a:graphic>
          <a:graphicData uri="http://schemas.openxmlformats.org/drawingml/2006/table">
            <a:tbl>
              <a:tblPr/>
              <a:tblGrid>
                <a:gridCol w="1828800"/>
                <a:gridCol w="594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The Mission Today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52:47Z</dcterms:created>
  <dc:creator>Lupin Hill</dc:creator>
  <dc:description/>
  <dc:language>en-US</dc:language>
  <cp:lastModifiedBy>Lupin Hill</cp:lastModifiedBy>
  <cp:lastPrinted>2007-01-11T20:25:53Z</cp:lastPrinted>
  <dcterms:modified xsi:type="dcterms:W3CDTF">2010-11-10T16:52:57Z</dcterms:modified>
  <cp:revision>1</cp:revision>
  <dc:subject/>
  <dc:title>Title Page</dc:title>
</cp:coreProperties>
</file>